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33E-0F24-483A-8755-BF169945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81E7-1674-468D-86F1-6DA8D998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44A-54F8-4862-AFD4-C778A255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3CC-F0F0-466E-8E2A-FC7D4BB6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B1B-EEF7-4F10-A9CB-E3DDE704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300-27C8-4793-921F-80A0177F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0C6-CB1E-45E3-A01C-269A8B46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FF5-C3E0-406E-B596-D5CA0DD0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79B-4FB8-47FE-BBD8-B1F2F154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148-54B8-423D-A96B-73A1298D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8AD0-CF6D-476F-985E-09011F41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80F-7D01-4587-9FE5-0AF5E469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3A83-11AE-408F-9687-598CECD9ED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усский портрет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риалы к уроку МХК в 11 клас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61160" y="981000"/>
            <a:ext cx="8128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лексей Петрович Антроп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1716 – 1795г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го можно назвать прозаико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вои модели он смотрит трезвым взгля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душного худож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енно удавались образы знатных стару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ь с живописью допетровской Ру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ет конкретные, объективные образы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, что модель хочет открыть зрит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942160" y="0"/>
            <a:ext cx="3201840" cy="4214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08000" y="2209680"/>
            <a:ext cx="356220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2987640" y="0"/>
            <a:ext cx="2944800" cy="3933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3419640" y="2333520"/>
            <a:ext cx="33908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[IS7IR_4-35]_[PD_04-r]"/>
          <p:cNvPicPr/>
          <p:nvPr/>
        </p:nvPicPr>
        <p:blipFill>
          <a:blip r:embed="rId1"/>
          <a:stretch/>
        </p:blipFill>
        <p:spPr>
          <a:xfrm>
            <a:off x="2990880" y="1047600"/>
            <a:ext cx="31622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04080" y="981000"/>
            <a:ext cx="767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ван Петрович Аргу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27 -180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епостной графов Шереметев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им из первых стал изображ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просто, почти буднич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моделей свободно развернут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пространст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гуры более объемны и самостоятель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2708280"/>
            <a:ext cx="2922480" cy="385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3027600" cy="391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2916360" y="0"/>
            <a:ext cx="3092400" cy="35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2916360" y="2744640"/>
            <a:ext cx="307008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904040" y="1700280"/>
            <a:ext cx="5336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окотов Федор Степан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08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этичн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ухотворе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казан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им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3552840" cy="477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4869000" y="692280"/>
            <a:ext cx="36892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959120" y="469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20240" y="830160"/>
            <a:ext cx="76438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митрий Григорьевич Левиц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35-1822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«В передаче интимного, неуловим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чарования лица, не блещущего красото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 выделяющегося оригинальностью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изображении простого, средне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езаметного лиц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оперников он не зна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42228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647600" y="544500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вицкий Д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рет Екатерины Нелид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1616400" y="2205000"/>
            <a:ext cx="601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ладимир Лукич Боровиков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757-1825г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тиментализ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4320" y="1197000"/>
            <a:ext cx="7704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ортрет 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единственная область живописи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в которой Россия … временам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шла в уровень с Европо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И.Э.Грабар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409920" cy="4181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52960" cy="443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5508720" y="0"/>
            <a:ext cx="346716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00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503960" cy="648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152680" y="4197240"/>
            <a:ext cx="400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ровиковский В.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тр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ександра Борисович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рак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3800" y="549360"/>
            <a:ext cx="85536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 – от парсуны – к портрет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вые парсуны еще тесно связ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традициями иконописных изображени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них чувствуется застылость, идеализ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отвлеченность обра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ходство с изображаемым человеком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язательное условие. «…яково бо что види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… слышит тако и в образах рекш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ицах начертыва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[IS7IR_16]_[PD_14-u]"/>
          <p:cNvPicPr/>
          <p:nvPr/>
        </p:nvPicPr>
        <p:blipFill>
          <a:blip r:embed="rId1"/>
          <a:stretch/>
        </p:blipFill>
        <p:spPr>
          <a:xfrm>
            <a:off x="3419640" y="3213000"/>
            <a:ext cx="2628720" cy="364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[IS7IR_1-09]_[PD_05-r]"/>
          <p:cNvPicPr/>
          <p:nvPr/>
        </p:nvPicPr>
        <p:blipFill>
          <a:blip r:embed="rId2"/>
          <a:stretch/>
        </p:blipFill>
        <p:spPr>
          <a:xfrm>
            <a:off x="3419640" y="189000"/>
            <a:ext cx="266040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[IS7IR_15]_[PF_01]"/>
          <p:cNvPicPr/>
          <p:nvPr/>
        </p:nvPicPr>
        <p:blipFill>
          <a:blip r:embed="rId3"/>
          <a:stretch/>
        </p:blipFill>
        <p:spPr>
          <a:xfrm>
            <a:off x="6084720" y="0"/>
            <a:ext cx="2213280" cy="4330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[IS7IR_15]_[PF_05]"/>
          <p:cNvPicPr/>
          <p:nvPr/>
        </p:nvPicPr>
        <p:blipFill>
          <a:blip r:embed="rId4"/>
          <a:stretch/>
        </p:blipFill>
        <p:spPr>
          <a:xfrm>
            <a:off x="6012000" y="3246480"/>
            <a:ext cx="2927160" cy="361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[IS7IR_15]_[PF_06]"/>
          <p:cNvPicPr/>
          <p:nvPr/>
        </p:nvPicPr>
        <p:blipFill>
          <a:blip r:embed="rId5"/>
          <a:stretch/>
        </p:blipFill>
        <p:spPr>
          <a:xfrm>
            <a:off x="1403280" y="0"/>
            <a:ext cx="202896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[IS7IR_1-09]_[PD_03-r]"/>
          <p:cNvPicPr/>
          <p:nvPr/>
        </p:nvPicPr>
        <p:blipFill>
          <a:blip r:embed="rId6"/>
          <a:stretch/>
        </p:blipFill>
        <p:spPr>
          <a:xfrm>
            <a:off x="611280" y="3284640"/>
            <a:ext cx="28922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69920" y="476280"/>
            <a:ext cx="878364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нец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– начал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VIII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век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еображенская (Потешная) сер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блема физического сходст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грает решающую 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ивопись не умеет обобща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увидеть в индивидуальном типично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Передразнивание» древней иконной живопи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3276720" cy="4029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2843280" y="1844640"/>
            <a:ext cx="3400200" cy="3772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756400" y="2852640"/>
            <a:ext cx="32320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8680" y="1413000"/>
            <a:ext cx="859608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ван Никитич Никитин (1690-17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из «птенцов гнезда Петров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в семье священ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ился в Венеции и Флорен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Анне Иоанновне приговоре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бессрочной ссылке в Тобольс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божден Елизаветой Петров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2854080" cy="3789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2873520" cy="378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075120" cy="3933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250920" y="2924280"/>
            <a:ext cx="29858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3362400" cy="474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4387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wner</cp:lastModifiedBy>
  <dcterms:modified xsi:type="dcterms:W3CDTF">2011-08-08T23:20:33Z</dcterms:modified>
  <cp:revision>6</cp:revision>
  <dc:subject/>
  <dc:title>PowerPoint Presentation</dc:title>
</cp:coreProperties>
</file>